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A099-38ED-4F05-A0D7-4186BEFC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8AF7-0DE4-450F-B9E1-B735296C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0187-CB70-47E9-ACD7-E5691F58C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8C5E-F6DF-4011-8999-70D111BBD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496-F44D-4721-A389-300FCF2E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900-56D1-491D-A768-17D259ED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F7542-B775-41D3-AB86-8B99DD4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0671-A480-4DC7-9F2F-741EBBB0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A083-B18E-445E-A83D-B725BBFE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8DB5-F97A-44B4-B9FA-A266FDF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2579E-7E5A-4540-A870-D3606200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421E5-F027-48BD-BF39-897E1E6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7230-AEF5-4AC2-801A-D85A1780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C479-2B7B-4615-BD7C-B6625E13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ECB4-E93F-44DA-9E7A-B499B1B8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1623-387E-4C85-B5BC-289B4F2A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008-5B15-4DD0-9121-C4B049FB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2A4B5-7BB8-40B8-8DC2-02F311A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D5530-53C0-44B9-9464-36DEC8FE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9CFF9-758B-418B-B818-C17EFF41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98D1-159E-4335-ADF7-3A33259B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5BB82-7E45-48DB-8559-2F4EBD56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1306-9014-404B-9ABA-BAE60DE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9569B-E886-4ABF-A9D3-F941D402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3247-0392-4336-A131-EC6FC2E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765EE-6383-4CF4-8306-B6D51875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A57E5-39A0-46E4-AC30-72ABA8F7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636-17E2-4160-B382-436E6BB2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1067F-239E-4C5F-B677-0540774F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EA9A4-BC07-4569-A254-F11C1E1C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9994E-9319-4159-913E-F5AC5B2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F9DA0-C329-4894-ACCE-15D02A0B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C47C1-652D-4935-96A9-A9242186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1C927-F91B-473E-89BC-E3FE9F88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538B9-76A2-4792-8C78-C7EB92BC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A51E3-5A84-400D-BBE4-7495F25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CA763-FB3F-4023-A9C8-4E7B1969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DE13B-DF40-48AA-8155-387FCE8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ED4A-3944-4F31-8CE2-E2113A52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5E158-5241-4C99-B69D-CB1003B6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4A771-31AA-4617-9CB7-4049D322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219DC-8B9A-4912-8E6F-121A6A1E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B5AD-8E94-4B08-B4EB-025FD3D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68BE-029C-460C-835E-4459611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854D-455B-4DA5-9045-9C3FCF03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52F7-BAF5-481C-BD1A-C2E888FD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6CD8-274B-487B-98ED-8BF99097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43EA-E6EF-4826-82ED-8B6CCE0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C22-B79C-4041-A039-84F1397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CF58-41A4-41DA-80DA-75FE73E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2719-FB64-4D43-8BF0-9FF878C8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925E-3B8D-4E6E-B39D-7F10B69F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118-C963-4538-81DF-157EEEE0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D546-3778-45C6-B9ED-BD2E9F57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2AB-AA0A-42B9-B878-552F8A4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35F-E74E-4754-85EB-1A390D27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49D1-4C11-409D-9AEB-318E76A5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DA7-F976-49DD-BED5-0798EF06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A788-928E-4706-AEE7-2F379EBA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4C61-E68C-4DB9-B360-D582ECB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9846-14CC-4E7C-9902-725712BE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BF40-96EB-4C16-AE0D-A461308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49D1-B0D7-4FBB-986B-9684401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EE17-35D6-44AC-820E-42390D36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8B73-1B31-49E5-9786-2F0FFC2E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A0B3-2091-4B29-9BCD-E7C21355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3F5D-A994-42B5-B300-FD33748E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ECCB-1F38-468C-97D1-A42D2DF0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578-C02E-4C61-9250-CC30C4D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28D9-4FF7-421A-9BBC-79F02F28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4818-2DAF-4E28-8456-24E0C85C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C7F4-34FA-49C1-9ADB-959F8663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C1DD-8089-4672-B01B-936C7A6B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FCD2-EA2A-4EE8-B4DE-3499B4AF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B917-2E8C-49D4-8144-C74FE76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4550-C24D-4988-A953-2A0953F5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4D3B-DB55-4D01-BED9-916A3B2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68BA-DF41-4A62-A45D-6B35220F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8366-DC5A-4141-9359-FD479A1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E27-CE69-4759-BB31-C83B23E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605D-1F8F-4BFD-BCFD-A7F6685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DD74-720B-44D5-8645-EC667AE6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6D1F-877E-4B3F-B79B-16EBE5D9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67382-786B-42A2-9C8B-CAE97521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B2A8-4BDB-4E4D-B957-7204ADCD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817A-D95B-4E8E-9C70-EEF8D8A3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2485-B928-4822-B533-9F18FB68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BDB6-4CBA-4F0C-9614-78767AAF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798AE-92C8-4B8E-B9A5-8849D201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1937-B493-48E4-95AA-8A0EC15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24A-20E7-4035-82AF-5AC6228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18A1-89B0-429E-987A-40A67E6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37201-4D4D-4D7C-AD70-5F759926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F2C31-973B-4BE1-A8D8-78AE80D9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2618-AD18-4810-A85E-A30B26D6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4468-3E98-4B2D-B9C8-9CA210EE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9349-B5F9-4C3B-98D0-6CC349A4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0279-1256-4B7C-8867-F35006D6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8D68C-2E02-4E55-8549-FE2FFF5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11E57-35C8-4A0D-84A1-E505D1B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E035-C952-4934-A684-5DD9E76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65D-83C8-4179-9A3F-A1305B5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037E3-FA8B-4DD6-9680-391A93B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EF34-B291-40A9-AC0F-29905426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8637D-536A-4763-A73A-66464B5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6263-DBF5-4D62-89A4-4411F17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1D58-5144-435A-9BA1-20D5678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48FCE-7F1A-4F02-9F61-64360E9A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F7EA-870F-46DE-BBF5-940CA884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1688-A55D-4B04-A36F-8D11A7BE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8886-746B-471D-805B-1FD4B734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67C85-D91E-4939-9C79-F359808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196-51C8-493F-AD82-7C618E406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71E9-D3B0-4C57-BDF2-1EB12DF3E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6280-4BBD-49E7-9DCE-860035318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F8F-A358-4E28-A8EF-0C1F119AB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3EF-94E9-4A87-995A-EC5F505EC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9870-5729-41CD-8F23-7E90223C9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846F-E21B-4A6A-AFC3-9BC877A53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F03-13B4-4CB5-8D90-B7E6E0C06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587E-8DCD-4AF9-A84B-3CCF27D32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larly &amp; Popu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6a6a6"/>
                </a:solidFill>
                <a:latin typeface="Calibri"/>
              </a:rPr>
              <a:t>Objective: Students will be able to differentiate between scholarly and popular artic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er Reviewed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er reviewed article has been reviewed for publication by a group of experts.  These experts are called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s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re highly specialized professionals or scholars in that field of expert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articles in scholarly journals, but not all, have been peer revie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-15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can access many popular and scholarly articles through the databases on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oneer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uch 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IR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BSC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5105520" y="3273480"/>
            <a:ext cx="3646440" cy="158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3" name="Picture 6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3819240" cy="166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4" name="Picture 7" descr=""/>
          <p:cNvPicPr/>
          <p:nvPr/>
        </p:nvPicPr>
        <p:blipFill>
          <a:blip r:embed="rId3"/>
          <a:stretch/>
        </p:blipFill>
        <p:spPr>
          <a:xfrm>
            <a:off x="4876920" y="4881600"/>
            <a:ext cx="16002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011240" y="2179800"/>
            <a:ext cx="7172280" cy="44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6" name="Rectangle 2"/>
          <p:cNvSpPr/>
          <p:nvPr/>
        </p:nvSpPr>
        <p:spPr>
          <a:xfrm>
            <a:off x="1073160" y="5943600"/>
            <a:ext cx="160020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974880" y="60948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to limit to scholarly/peer-reviewed journals in some databases, but keep in mind that not all of the articles found using this limiter are scholarly and/or peer-revi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scholarly and popular articles can be used in research, but be aware of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qual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can either be…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cholarl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op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6" descr="C:\Users\Operator\AppData\Local\Microsoft\Windows\Temporary Internet Files\Content.IE5\IQUTI593\MC900273024[1].wmf"/>
          <p:cNvPicPr/>
          <p:nvPr/>
        </p:nvPicPr>
        <p:blipFill>
          <a:blip r:embed="rId1"/>
          <a:stretch/>
        </p:blipFill>
        <p:spPr>
          <a:xfrm>
            <a:off x="3505320" y="4952880"/>
            <a:ext cx="182700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researching a topic, you may be asked to find both scholarly and popular articles.  These articles will be found in either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cholarly journa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popular magazin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type of information you are looking f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cholarl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ually refers to journals  such 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762120" y="1909800"/>
            <a:ext cx="2847960" cy="377172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774000" y="5688000"/>
            <a:ext cx="250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pubs.acs.or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on/showLargeCover?issue=330362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"/>
          <p:cNvPicPr/>
          <p:nvPr/>
        </p:nvPicPr>
        <p:blipFill>
          <a:blip r:embed="rId2"/>
          <a:stretch/>
        </p:blipFill>
        <p:spPr>
          <a:xfrm>
            <a:off x="5181480" y="19098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485" name="TextBox 3"/>
          <p:cNvSpPr/>
          <p:nvPr/>
        </p:nvSpPr>
        <p:spPr>
          <a:xfrm>
            <a:off x="5195880" y="5743440"/>
            <a:ext cx="308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jama.ama-assn.org/conten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5/15/1860.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holarly journal articles have the following characteristic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written by someone who is an exper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has done research on the sub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written for schol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do not have many pictures, but may include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tabl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gra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often include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abstr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itation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81bd"/>
                </a:solidFill>
                <a:latin typeface="Calibri"/>
              </a:rPr>
              <a:t>Refer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a </a:t>
            </a:r>
            <a:r>
              <a:rPr b="0" lang="en-US" sz="3000" spc="-1" strike="noStrike">
                <a:solidFill>
                  <a:srgbClr val="4f81bd"/>
                </a:solidFill>
                <a:latin typeface="Calibri"/>
              </a:rPr>
              <a:t>bibliograph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usually included at the end of the artic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opula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usually refers to magazines such 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914400" y="57675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www.time.com/time/covers/0,16641,1101110131,00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1"/>
          <a:stretch/>
        </p:blipFill>
        <p:spPr>
          <a:xfrm>
            <a:off x="914400" y="1736640"/>
            <a:ext cx="3048120" cy="4030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876920" y="1747800"/>
            <a:ext cx="3049560" cy="4043520"/>
          </a:xfrm>
          <a:prstGeom prst="rect">
            <a:avLst/>
          </a:prstGeom>
          <a:ln w="0">
            <a:noFill/>
          </a:ln>
        </p:spPr>
      </p:pic>
      <p:sp>
        <p:nvSpPr>
          <p:cNvPr id="492" name="TextBox 3"/>
          <p:cNvSpPr/>
          <p:nvPr/>
        </p:nvSpPr>
        <p:spPr>
          <a:xfrm>
            <a:off x="4892760" y="5791320"/>
            <a:ext cx="3375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static.seekingalpha.com/upload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/4/4/saupload_040717_cov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ular magazine articles have the following characteristic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for the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general 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a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journa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xtensive adverti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graphics, and photo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shed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aily, weekly, or month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clude references or ci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current events, trends, opinions and topics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pula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Scholarly Journal &amp; Popular Magazine Artic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85800" y="1905120"/>
          <a:ext cx="7848720" cy="42066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larly Journal Art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r Magazine Artic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lars in a specific subject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eneral 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xpert or researcher; i.e. an artist, historian, doctor, educ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journalist, celebrity, general p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little advertising; graphics specialized, if 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advertisements and photograp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ing level is advanced;  use specialized vocabu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ing level is very basic for general pop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shed quarterly or bi-monthly, usu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shed weekly or mont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Scholarly Journals &amp; Popular Magazines—con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04920" y="1676520"/>
          <a:ext cx="8610480" cy="479412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larly Journal 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r Magazine 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de references to sources, bibliographies, full citations (at end of artic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rely include references, bibliographies, or ci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ed in specialized databases such as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education artic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ed in general databases such as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er</a:t>
                      </a:r>
                      <a:r>
                        <a:rPr b="1" i="1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Guide o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 specific topics in a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cholarly 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de current events, trends, opinions and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pular intere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en include an abstract or brief summary of the article to inform the r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en include inviting title and subtitles to encourage reading the art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ved for publication by a group of specialists in the same field of interest; this is calle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reviewe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ved for publication by the magazine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edi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3:34:50Z</dcterms:created>
  <dc:creator>Operator</dc:creator>
  <dc:description/>
  <dc:language>en-US</dc:language>
  <cp:lastModifiedBy>Laurel Harris</cp:lastModifiedBy>
  <dcterms:modified xsi:type="dcterms:W3CDTF">2013-01-28T20:49:35Z</dcterms:modified>
  <cp:revision>118</cp:revision>
  <dc:subject/>
  <dc:title>Slide 1</dc:title>
</cp:coreProperties>
</file>